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91960" y="595080"/>
            <a:ext cx="46242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25240" y="4411440"/>
            <a:ext cx="60181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525240" y="4408560"/>
            <a:ext cx="6019560" cy="4176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et cla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87280" y="596880"/>
            <a:ext cx="4623120" cy="3467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40600"/>
            <a:ext cx="784872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406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5406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406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5406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540600"/>
            <a:ext cx="252720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45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151920"/>
            <a:ext cx="571644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406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5406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40600"/>
            <a:ext cx="7848720" cy="218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716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4590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7400" indent="-3394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920" indent="-3394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920" indent="-3394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920" indent="-3394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4400" y="6654960"/>
            <a:ext cx="40384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61a L8.2.2 Adios (</a:t>
            </a:r>
            <a:fld id="{428A0592-23F9-4F63-BFC3-13BDB7C094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3000" y="6651720"/>
            <a:ext cx="196992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. Meinz, Summer 2005 © UC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85800"/>
            <a:ext cx="794376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3360" y="6168960"/>
            <a:ext cx="8510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5000" y="1305720"/>
            <a:ext cx="65401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CS61a : SICP</a:t>
            </a:r>
            <a:br>
              <a:rPr sz="36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Lecture 8.2.2</a:t>
            </a: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ios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-08-11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rt Meinz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19191"/>
                </a:solidFill>
                <a:latin typeface="Courier New"/>
              </a:rPr>
              <a:t>inst.eecs.berkeley.edu/~cs61a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271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 170/2/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all the things I’ve hinted at (“lambda is all you need”, et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s on logic, proo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271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 18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simplified” logic language optimized for efficie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s on log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641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More Generall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61a skill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for eleg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ortance of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/Decomposition (One step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ep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934920"/>
            <a:ext cx="7848720" cy="5821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we work you so har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you that computer science is not computer engineering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of the few courses (and only lower division cs) that will flex your mind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classes =&gt; busywork/debug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classes =&gt; in-depth, but limi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I can give you good grad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934920"/>
            <a:ext cx="7848720" cy="4344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we work you so har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your courses from here on out will be easy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less thou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one of you is MUCH smarter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03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Last Slide Ever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400" y="934920"/>
            <a:ext cx="7848720" cy="4323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 algn="ctr">
              <a:lnSpc>
                <a:spcPct val="75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Thank You </a:t>
            </a:r>
            <a:r>
              <a:rPr b="1" lang="en-US" sz="3600" spc="-1" strike="noStrike">
                <a:solidFill>
                  <a:srgbClr val="919191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 See You Ar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3040" indent="0" algn="ctr">
              <a:lnSpc>
                <a:spcPct val="75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3040" indent="0" algn="ctr">
              <a:lnSpc>
                <a:spcPct val="75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Stay in Touch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15238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589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U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2698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ministrivia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180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ff say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is “Evaluator and tree heavy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es most other topics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 me for office hours, more face2face for 7-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accounts will be open; Cardkeys will expire on the 1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??) =&gt; we’ll put something on the webp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801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Join the Dark Side!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78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did well in 61a (A- or above) and want to be on the staff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8680" y="1994040"/>
            <a:ext cx="71899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801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Join the Dark Side!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179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did well in 61a (A- or above) and want to be on the staff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actually know something until you can answer questions about i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path: Lab assistan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er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in form outside 367 Soda before first week of semester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did well in this course, I’ll write you a super recommend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3443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urse Overview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35160" y="776160"/>
            <a:ext cx="6811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186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 61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(and expands upon) Object Oriented, DDP, Tre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33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 61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you how much of 61a (and b) is done at the hardwar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rames (implemented in hardware), log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4408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What is this good for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186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 16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object oriented, DDP, evaluators, scoping, logic, trees(!)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9T16:58:46Z</dcterms:created>
  <dc:creator>Kurt Meinz</dc:creator>
  <dc:description/>
  <cp:keywords/>
  <dc:language>en-US</dc:language>
  <cp:lastModifiedBy>Kurt</cp:lastModifiedBy>
  <cp:lastPrinted>2004-01-28T07:29:59Z</cp:lastPrinted>
  <dcterms:modified xsi:type="dcterms:W3CDTF">2005-08-13T22:43:54Z</dcterms:modified>
  <cp:revision>1774</cp:revision>
  <dc:subject/>
  <dc:title>CS61a - Adios</dc:title>
</cp:coreProperties>
</file>